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CE10-6C36-4845-A65B-BC34FEEE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5ACD-95B3-40BF-BF6F-B2BC9C74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2409-72B8-42E0-8992-EF1AB936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B922-D826-4EA0-B9E1-D46897E3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CF81-957A-4540-987F-25A22EB0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A00A-B72D-464F-9B71-727C7E66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685-F3B4-48E6-A4C1-A09CB39B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3EF0-B371-4078-9C3F-50996256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061D-861C-4BBC-B38F-5D70488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F3FA-F655-40A9-932A-F81307F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6DE0-EEFB-4102-974A-B57C72ED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29FF-E582-48C2-8909-7D835D47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53C2-0FC3-45E7-8649-F08C93E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956E-7590-4DF6-871D-58D07AA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4577-2D56-4CB0-8BFA-616AF19E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80DB-66F9-46B6-B357-03DA5B3B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707-2D69-42A9-A8E5-1F6F126E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3374-8586-4756-97C5-FAF8454D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BDE7-027C-4719-A79A-3B27290A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7743-E113-4EA0-95A1-4113A45D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B847-4E16-4DFF-AD8F-42323C2B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6173-0AE7-40C3-90AC-C957655C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A276-DC99-46A8-94FB-ADEACF3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77A7-2052-4F03-A301-8A9D05A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930B-B6A9-4EAE-BBEC-DF8027999BA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F911-9DC8-4D12-AC6D-802F482F479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7012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то еленът за вода студен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душата ми, Боже жадне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йта святост и любов блаже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ът Ти свят във мен да се изл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538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 днес ме Ти от зли беди запаз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зил Си ме със Свойта благодат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крий ми Твойте царствени чертоз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Твойте ангели се весел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-312480"/>
            <a:ext cx="932508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хваля Твойта бащинска защи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 песни с благодарствен глас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щото дал Си радост в мен чести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шиш ме в мъки, скърби всеки ч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2T15:38:52Z</dcterms:modified>
  <cp:revision>8</cp:revision>
  <dc:subject/>
  <dc:title>Slide 1</dc:title>
</cp:coreProperties>
</file>